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764-3358-4BF7-82BF-133D821B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541-60AB-4F09-8B95-31575359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7F7-F6CA-4825-9466-6589E945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1B2-6BB0-42ED-8427-FA2AD67D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F96-8D30-44F3-B927-CC8C69FE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3E7-7A3A-4AC0-A2FD-EB13FA21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AA9-2DE5-4333-BEDD-8BC3CCA2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B1D-91DA-4F77-B9FA-77382525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9FE-C5ED-4912-A4FD-77A3DC65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499-4A2D-47A8-A7F6-472F12BE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6D0-289E-482A-8721-F166B545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606-C632-4663-BCEF-6D0C315E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306C-E372-4831-9B58-DB1FCFFD0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380880"/>
            <a:ext cx="80773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12600">
                  <a:solidFill>
                    <a:srgbClr val="ff0000"/>
                  </a:solidFill>
                  <a:prstDash val="sysDot"/>
                  <a:miter/>
                </a:ln>
                <a:solidFill>
                  <a:srgbClr val="00ff00">
                    <a:alpha val="60000"/>
                  </a:srgbClr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crosoft Sans Serif"/>
              </a:rPr>
              <a:t>МО НЕБЕ МУ КЛЬОМ</a:t>
            </a:r>
            <a:endParaRPr b="0" i="1" lang="en-US" sz="6000" spc="1" strike="noStrike">
              <a:ln w="12600">
                <a:solidFill>
                  <a:srgbClr val="ff0000"/>
                </a:solidFill>
                <a:prstDash val="sysDot"/>
                <a:miter/>
              </a:ln>
              <a:solidFill>
                <a:srgbClr val="00ff00">
                  <a:alpha val="60000"/>
                </a:srgbClr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icrosoft Sans Serif"/>
              <a:ea typeface="Microsoft Sans Serif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4038480"/>
            <a:ext cx="8077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imSun"/>
              </a:rPr>
              <a:t>НЕБЕТО СИ ОСТАВИХ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imSun"/>
              <a:ea typeface="SimSu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52280"/>
            <a:ext cx="4435560" cy="5946120"/>
          </a:xfrm>
          <a:prstGeom prst="rect">
            <a:avLst/>
          </a:prstGeom>
          <a:gradFill rotWithShape="0">
            <a:gsLst>
              <a:gs pos="0">
                <a:srgbClr val="000020">
                  <a:alpha val="20000"/>
                </a:srgbClr>
              </a:gs>
              <a:gs pos="100000">
                <a:srgbClr val="ff33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МО НЕБЕ МУ КЛЬ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КИПУВ МЕ АЛЬ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ТУТ МЕ ТЕ РОД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АНГАЛИТЕ Д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МИСЛИНГЬОМ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СО КА ДИКЕЛ 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АНГАЛИ КА ДЕЛ МА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”</a:t>
            </a: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ШУКАРАНА ДЕВЛА ТУ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МАНГЕ КАМ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А ТУМЕ СО ДИКЛЕ М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ИЛЕ БУТ МАНГЕ МА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”</a:t>
            </a: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НА МАНГАСА ДЕВЛА 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ТУ САР ТЕ О,ВАВ 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14760" y="1158840"/>
            <a:ext cx="4629240" cy="4667760"/>
          </a:xfrm>
          <a:prstGeom prst="rect">
            <a:avLst/>
          </a:pr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00002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НЕБЕТО СИ ОСТАВ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И НА ЗЕМЯТА ДОЙДО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ТЕБЕ ДА ПОТЪРСЯ И 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ТЕ ПРЕГЪРН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ПОМИСЛИХ СИ,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ЧЕ КАТО 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ВИДИТЕ ЩЕ МЕ ПРЕГЪРН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И ЩЕ МИ КАЖЕ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ДОБРЕ СИ ДОШЪЛ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 ГОСПОДИ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А ВИЕ, КАТО МЕ ВИДЯХ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МНОГО МЕ БИХТЕ И КАЗАХ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НЕ ИСКАМЕ С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ТЕБ ДА БЪДЕМ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6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8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8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65240" y="646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1760" y="128520"/>
            <a:ext cx="3755880" cy="6677640"/>
          </a:xfrm>
          <a:prstGeom prst="rect">
            <a:avLst/>
          </a:prstGeom>
          <a:gradFill rotWithShape="0">
            <a:gsLst>
              <a:gs pos="0">
                <a:srgbClr val="ff3300">
                  <a:alpha val="20000"/>
                </a:srgbClr>
              </a:gs>
              <a:gs pos="100000">
                <a:srgbClr val="009999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СОСКЕ ТУ МОЧ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СОСКЕ МАН НА МАНГЕ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 ТЕ ЖАНЕС О, Н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АШАЛ ТУКЕ МУКЛЬ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АЛЬ0ММЕТУ ТЕ РОД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ТИРЕ МЪКЕС ТЕ Л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АТУМЕ НА МАН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ИЛЕ БУТ МАНГЕ 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МЕСТО МОРА ТЕ КО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КО МУЙ ЧУНГАРГЕ 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МЕСТО АНГАЛИ  ТЕ Д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КО КРЪСТ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КОВИНГЕ МАН. </a:t>
            </a:r>
            <a:r>
              <a:rPr b="1" i="1" lang="bg-BG" sz="2400" spc="-1" strike="noStrike">
                <a:solidFill>
                  <a:srgbClr val="ff3300"/>
                </a:solidFill>
                <a:latin typeface="Arial"/>
              </a:rPr>
              <a:t>/ </a:t>
            </a: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000" y="1727280"/>
            <a:ext cx="4309200" cy="4667760"/>
          </a:xfrm>
          <a:prstGeom prst="rect">
            <a:avLst/>
          </a:prstGeom>
          <a:gradFill rotWithShape="0">
            <a:gsLst>
              <a:gs pos="0">
                <a:srgbClr val="009999">
                  <a:alpha val="20000"/>
                </a:srgbClr>
              </a:gs>
              <a:gs pos="100000">
                <a:srgbClr val="ff33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ЗАЩО СИНЕ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ЗАЩО НЕ МЕ ИСКАШ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ДА ЗНАЕ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ЧЕ НЕБЕТО СИ ОСТАВ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И ДОЙДОХ ДА ВИ ТЪР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И ВАШИТЕ МЪКИ ДА ВЗЕ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А ВИЕ НЕ ПОЖЕЛАХ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ВМЕСТО КРЪВТА 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ДА ИЗТРИЕ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В ЛИЦЕТО МЕ ЗАПЛЮХ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И ВМЕСТО ДА МЕ ПРЕГЪРНЕТЕ</a:t>
            </a:r>
            <a:r>
              <a:rPr b="1" i="1" lang="bg-BG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НА КРЪСТ МЕ ПРИКОВАХ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5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2200" y="0"/>
            <a:ext cx="3675240" cy="6311880"/>
          </a:xfrm>
          <a:prstGeom prst="rect">
            <a:avLst/>
          </a:prstGeom>
          <a:gradFill rotWithShape="0">
            <a:gsLst>
              <a:gs pos="0">
                <a:srgbClr val="0000ff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МО НЕБЕ МУ КЛЬ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КИПУВ МЕ АЛЬ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ТУТ МЕ ТЕ РОД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АНГАЛИТЕ Д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МИСЛИНГЬ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СО КА ДИКЕЛ 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АНГАЛИ КА ДЕЛ М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”</a:t>
            </a: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ШУКАРАНА ДЕВЛА ТУ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МАНГЕ КАМ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А ТУМЕ СО ДИКЛЕ М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ИЛЕ БУТ МАНГЕ МАН 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”</a:t>
            </a: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НА МАНГАСА ДЕВЛА 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ТУ САР ТЕ О,ВАВ 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</a:rPr>
              <a:t>.</a:t>
            </a:r>
            <a:r>
              <a:rPr b="1" i="1" lang="bg-BG" sz="2400" spc="-1" strike="noStrike">
                <a:solidFill>
                  <a:srgbClr val="ff33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08080" y="876240"/>
            <a:ext cx="4155480" cy="4667760"/>
          </a:xfrm>
          <a:prstGeom prst="rect">
            <a:avLst/>
          </a:prstGeom>
          <a:gradFill rotWithShape="0">
            <a:gsLst>
              <a:gs pos="0">
                <a:srgbClr val="0000ff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바탕"/>
              </a:rPr>
              <a:t>НЕБЕТО СИ ОСТАВ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바탕"/>
              </a:rPr>
              <a:t>И НА ЗЕМЯТА ДОЙДО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바탕"/>
              </a:rPr>
              <a:t>ТЕБЕ ДА ПОТЪРСЯ И 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바탕"/>
              </a:rPr>
              <a:t>ТЕ ПРЕГЪРН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바탕"/>
              </a:rPr>
              <a:t>ПОМИСЛИХ СИ,</a:t>
            </a:r>
            <a:r>
              <a:rPr b="1" i="1" lang="en-US" sz="2000" spc="-1" strike="noStrike">
                <a:solidFill>
                  <a:srgbClr val="ff3300"/>
                </a:solidFill>
                <a:latin typeface="바탕"/>
              </a:rPr>
              <a:t> </a:t>
            </a:r>
            <a:r>
              <a:rPr b="1" i="1" lang="bg-BG" sz="2000" spc="-1" strike="noStrike">
                <a:solidFill>
                  <a:srgbClr val="ff3300"/>
                </a:solidFill>
                <a:latin typeface="바탕"/>
              </a:rPr>
              <a:t>ЧЕ КАТО 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바탕"/>
              </a:rPr>
              <a:t>ВИДИТЕ ЩЕ МЕ ПРЕГЪРН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바탕"/>
              </a:rPr>
              <a:t>И ЩЕ МИ КАЖЕ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바탕"/>
              </a:rPr>
              <a:t>”</a:t>
            </a:r>
            <a:r>
              <a:rPr b="1" i="1" lang="bg-BG" sz="2000" spc="-1" strike="noStrike">
                <a:solidFill>
                  <a:srgbClr val="ff3300"/>
                </a:solidFill>
                <a:latin typeface="바탕"/>
              </a:rPr>
              <a:t>ДОБРЕ СИ ДОШЪЛ</a:t>
            </a:r>
            <a:r>
              <a:rPr b="1" i="1" lang="en-US" sz="2000" spc="-1" strike="noStrike">
                <a:solidFill>
                  <a:srgbClr val="ff3300"/>
                </a:solidFill>
                <a:latin typeface="바탕"/>
              </a:rPr>
              <a:t>,</a:t>
            </a:r>
            <a:r>
              <a:rPr b="1" i="1" lang="bg-BG" sz="2000" spc="-1" strike="noStrike">
                <a:solidFill>
                  <a:srgbClr val="ff3300"/>
                </a:solidFill>
                <a:latin typeface="바탕"/>
              </a:rPr>
              <a:t> ГОСПОДИ”</a:t>
            </a:r>
            <a:r>
              <a:rPr b="1" i="1" lang="en-US" sz="2000" spc="-1" strike="noStrike">
                <a:solidFill>
                  <a:srgbClr val="ff3300"/>
                </a:solidFill>
                <a:latin typeface="바탕"/>
              </a:rPr>
              <a:t>!</a:t>
            </a:r>
            <a:r>
              <a:rPr b="1" i="1" lang="bg-BG" sz="2000" spc="-1" strike="noStrike">
                <a:solidFill>
                  <a:srgbClr val="ff3300"/>
                </a:solidFill>
                <a:latin typeface="바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바탕"/>
              </a:rPr>
              <a:t>А ВИЕ, КАТО МЕ ВИДЯХ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바탕"/>
              </a:rPr>
              <a:t> </a:t>
            </a:r>
            <a:r>
              <a:rPr b="1" i="1" lang="bg-BG" sz="2000" spc="-1" strike="noStrike">
                <a:solidFill>
                  <a:srgbClr val="ff3300"/>
                </a:solidFill>
                <a:latin typeface="바탕"/>
              </a:rPr>
              <a:t>МНОГО МЕ БИХТЕ И КАЗАХ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바탕"/>
              </a:rPr>
              <a:t>”</a:t>
            </a:r>
            <a:r>
              <a:rPr b="1" i="1" lang="bg-BG" sz="2000" spc="-1" strike="noStrike">
                <a:solidFill>
                  <a:srgbClr val="ff3300"/>
                </a:solidFill>
                <a:latin typeface="바탕"/>
              </a:rPr>
              <a:t>НЕ ИСКАМЕ С ТЕБ ДА БЪДЕМ </a:t>
            </a:r>
            <a:r>
              <a:rPr b="1" i="1" lang="en-US" sz="2000" spc="-1" strike="noStrike">
                <a:solidFill>
                  <a:srgbClr val="ff3300"/>
                </a:solidFill>
                <a:latin typeface="바탕"/>
              </a:rPr>
              <a:t>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0">
    <p:checke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8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8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4419720" cy="6677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50000">
                <a:srgbClr val="009999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СОСКЕ ТУ МОЧ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СОСКЕ МАН НА МАНГЕ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"/>
              </a:rPr>
              <a:t>/ </a:t>
            </a: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ТЕ ЖАНЕС</a:t>
            </a: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О,Н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АШАЛ ТУКЕ МУКЛЬ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АЛЬОММЕТУ ТЕ РОД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ТИРЕ МЪКЕС ТЕ Л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А ТУМЕ НА МАН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ИЛЕ БУТ МАНГЕ 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МЕСТО МОРА ТЕ КО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КО МУЙ ЧУНГАРГЕ 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МЕСТО АНГАЛИ ТЕ Д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КО КРЪСТ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КОВИНГЕ МАН. </a:t>
            </a:r>
            <a:r>
              <a:rPr b="1" i="1" lang="bg-BG" sz="2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i="1" lang="bg-BG" sz="2400" spc="-1" strike="noStrike">
                <a:solidFill>
                  <a:srgbClr val="ff3300"/>
                </a:solidFill>
                <a:latin typeface="Arial Black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6760" y="914400"/>
            <a:ext cx="4309200" cy="46677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50000">
                <a:srgbClr val="009999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ЗАЩО СИ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ЗАЩО НЕ МЕ ИСКАШ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ДА ЗНАЕ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ЧЕ НЕБЕТО СИ ОСТАВ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И ДОЙДОХ ДА ВИ ТЪР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И ВАШИТЕ МЪКИ ДА ВЗЕ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А ВИЕ НЕ ПОЖЕЛАХ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ВМЕСТО КРЪВТА 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ДА ИЗТРИЕ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В ЛИЦЕТО МЕ ЗАПЛЮХ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И ВМЕСТО ДА МЕ ПРЕГЪРНЕ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3300"/>
                </a:solidFill>
                <a:latin typeface="Arial"/>
              </a:rPr>
              <a:t>НА КРЪСТ МЕ ПРИКОВАХТ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5000">
    <p:diamond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1:53:06Z</dcterms:created>
  <dc:creator>TrifonTrifonow</dc:creator>
  <dc:description/>
  <dc:language>en-US</dc:language>
  <cp:lastModifiedBy>TrifonTrifonow</cp:lastModifiedBy>
  <dcterms:modified xsi:type="dcterms:W3CDTF">2006-01-11T16:30:19Z</dcterms:modified>
  <cp:revision>2</cp:revision>
  <dc:subject/>
  <dc:title>Slide 1</dc:title>
</cp:coreProperties>
</file>